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FC69-7090-4108-B95C-3413AAA08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1E45-9BC4-4438-9F0C-3CA91E488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D747-FD0C-4A7E-B0A9-463FE619C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16C7-5D1F-4777-9D67-571C24B8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1597-B4CA-40BB-90D0-8910EE54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E6D3-719E-41CB-927D-1F7A8F514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E302-614E-4482-A14B-B85259D51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4AB2-C03D-447D-A877-C96DE6EC2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043-FC4C-4CD0-87E8-9D4464F7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27F-DF18-4F52-A19E-212C8531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651-61EE-49B2-9289-381CB092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1AE-7DD7-4D69-BB5C-F1F99A06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9CCE-FE3A-4095-B99E-3255D82A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B69C-6764-42CA-BC87-329160D8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52D3-A6F5-4266-9125-B064B49F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D9F2-0D83-4EAB-867B-030B0BA5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628F-EF9C-49BA-803E-58D52D5B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1DF9-1495-4932-821B-F2FF9003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F63D-11A3-4364-8352-77145D99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F3C-E681-4DFF-9E2D-3A9190D5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0BB3-2380-437B-9ED2-9413C622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C96E-0144-47C6-A778-192D4BC3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B527-21EF-4DD5-B6E7-828AF0CA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B72A-BD09-4622-A0E6-C577A70D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AB2A-1033-4C54-8FAD-FEFCDE9F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FA8-FCB7-45C4-B975-30D19DB5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743-AA3F-4296-97ED-B40B6B96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5EC-739F-4DCD-88D2-4C84A359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09F-1532-487E-9EDC-53852842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ED0-C8FF-4A03-9386-19181155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B1F-5E2C-4852-BF49-F4D04444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8A2-EFA0-4D81-B3E4-E3DDDC37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133A-FCB0-4C52-87D7-02FDF689AF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6025-F4AC-49EB-B6E5-757B6020CE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out and what to do about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hort Bibliography for More Information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ional Learning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ilure is Not an Option: Six Principles that Guide Student Achievement in High Performing Sch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an Blankstein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ting Started: Reculturing Schools to Become Professional Learning Commun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obert Eaker, Richard DuFour, Rebecca DuFour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ading Learning Communies: Standards for What Principals Should Know and Be Able to 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ESP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 Common Ground: The Power of Professional Learning Commun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ichard DuFour, Robert Eaker, Rebecca DuFour (Editors)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fessional Learning Communities At Work: Best Practices for Enhancing Student Achievemen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DuFour and Robert 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atever It Takes: How Professional Learning Communities Respond When Kids Don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Lea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ichard DuFour, Rebecca DuFour, Robert Eaker, and Gayle Karhanek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ost promising strategy for substantive school improvement is developing the capacity for school personnel to function as a professional learning community (PLC).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Eaker, Richard DuFour, and Rebecca DuFou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ting Started: Reculturing Schools to Become Professional Learning Commun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fessional Learning Community is N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to b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ckage of reforms to be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ep-by-step recipe f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re-fire system borrowed from anothe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ore thing to add to an already cluttered school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WILL CHANGE A SCHOO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CULT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ditional scho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cus is on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is done i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think of the themselves as autonomous, independent contr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have little input into the schoo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ision and missio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hoo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ission statement is generic and tangential to classro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ditional schools (continu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ncipal makes the decisions and teachers do what (and only what) they are told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iculum and the textbook are one and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 are norm-b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results are used for grading purposes o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do not learn are given the opportunity to catch up.  The rest is up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sential Elements of a PLC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is a collaborative ven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is always focused on student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distributes leadership responsi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narrows the curriculum to its ess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shares best practices as a means of improving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use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for lear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ddition to the usual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learning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Professional Development Gro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ing to run as a professional learning commun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share ideas and critiques based on the readings that we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discuss application to our classroom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culminate with a presentation that will model best practices, while sharing what we have learned with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ach PDG Group Meeting will…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approximately 4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 literature circle; each week you will have roles that will help guide the convers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time to plan culminating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at the reading/at home responsibilities are for the week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DG’s will meet 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5 (pre-plan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.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.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Any additional time needed will be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Be sure to assign readings accord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07:14Z</dcterms:created>
  <dc:creator>John Golden</dc:creator>
  <dc:description/>
  <dc:language>en-US</dc:language>
  <cp:lastModifiedBy>Nicole Pepe</cp:lastModifiedBy>
  <dcterms:modified xsi:type="dcterms:W3CDTF">2012-10-05T03:21:30Z</dcterms:modified>
  <cp:revision>16</cp:revision>
  <dc:subject/>
  <dc:title>Are You Part of a Professional Learning Community?</dc:title>
</cp:coreProperties>
</file>